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519-7FBF-4F74-AE9F-223F0C68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89B-FF53-4B10-811A-1A583E16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3DE-9180-45C4-8585-016846E9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FCF-9740-4164-A8C6-0205630C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3501-41C7-4608-8C40-6D0FDBBC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4660-8A1B-4725-AE34-47132824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2B00-F65F-4FD2-89DD-1747591F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1609-0CA2-43E2-8BEC-B1BE0018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D0DD-C375-4D1D-94BD-16C09053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75C5-6AA4-4C5D-98DB-6FCC29D3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40B3-BAD4-4F99-AF8B-291929D1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D2D-23FE-447D-9AD6-13ED3824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6DFD-0D3A-48E0-A62C-1B9B7C56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C44C-8B5C-4F3F-A66B-0113BD35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8204-01BA-4E30-8116-616EAD44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3DD4-8DEA-44B3-B5AC-19225147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1FAA-FE27-4C66-A99B-7937BC50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630-917A-4BC9-9447-50058D14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C68-0880-4489-8578-A94D2022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09F-414F-4340-B74C-2C403FA2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6C2-7B7A-4ADF-B987-41A93D8F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AF9-AD1D-4A61-B8FA-A93098FF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8BD-8690-4FB2-966E-80AD67B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940-DCDB-494F-830A-C776F2A6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cc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33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33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3366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66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3366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66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3366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8B53-D0D5-44D2-BE33-093974B52133}" type="slidenum">
              <a:rPr b="0" lang="ko-KR" sz="1400" spc="-1" strike="noStrike">
                <a:solidFill>
                  <a:srgbClr val="3366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120" y="1371600"/>
            <a:ext cx="7848360" cy="152280"/>
            <a:chOff x="762120" y="1371600"/>
            <a:chExt cx="7848360" cy="152280"/>
          </a:xfrm>
        </p:grpSpPr>
        <p:sp>
          <p:nvSpPr>
            <p:cNvPr id="6" name=""/>
            <p:cNvSpPr/>
            <p:nvPr/>
          </p:nvSpPr>
          <p:spPr>
            <a:xfrm>
              <a:off x="762120" y="1430280"/>
              <a:ext cx="7848360" cy="936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7880" y="1371600"/>
              <a:ext cx="7768440" cy="11268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74360" y="1400040"/>
              <a:ext cx="776520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4360" y="1430280"/>
              <a:ext cx="776520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4360" y="1461960"/>
              <a:ext cx="776520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74360" y="1393920"/>
              <a:ext cx="77652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4360" y="1425600"/>
              <a:ext cx="77652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4360" y="1455840"/>
              <a:ext cx="77652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3366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66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3366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66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3366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9871-C8B2-4CE4-A031-E9F29992F64D}" type="slidenum">
              <a:rPr b="0" lang="ko-KR" sz="1400" spc="-1" strike="noStrike">
                <a:solidFill>
                  <a:srgbClr val="3366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9480" y="3324240"/>
            <a:ext cx="8001000" cy="256680"/>
            <a:chOff x="609480" y="3324240"/>
            <a:chExt cx="8001000" cy="256680"/>
          </a:xfrm>
        </p:grpSpPr>
        <p:sp>
          <p:nvSpPr>
            <p:cNvPr id="55" name=""/>
            <p:cNvSpPr/>
            <p:nvPr/>
          </p:nvSpPr>
          <p:spPr>
            <a:xfrm>
              <a:off x="609480" y="3424320"/>
              <a:ext cx="8001000" cy="1566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5960" y="3324240"/>
              <a:ext cx="7843680" cy="19044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2440" y="337212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2440" y="342432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2440" y="347652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62040"/>
              <a:ext cx="78404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14600"/>
              <a:ext cx="78404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466800"/>
              <a:ext cx="78404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00"/>
                </a:solidFill>
                <a:latin typeface="Times New Roman"/>
              </a:endParaRPr>
            </a:p>
          </p:txBody>
        </p:sp>
      </p:grp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2" marL="914400" algn="ctr">
              <a:spcBef>
                <a:spcPts val="249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3" marL="1371600" algn="ctr">
              <a:spcBef>
                <a:spcPts val="224"/>
              </a:spcBef>
              <a:buClr>
                <a:srgbClr val="00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lvl="4" marL="1828800" algn="ctr">
              <a:spcBef>
                <a:spcPts val="201"/>
              </a:spcBef>
              <a:buClr>
                <a:srgbClr val="cc6600"/>
              </a:buClr>
              <a:buSzPct val="11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33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33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cc6600"/>
                </a:solidFill>
                <a:latin typeface="휴먼엑스포"/>
                <a:ea typeface="휴먼엑스포"/>
              </a:rPr>
              <a:t>북한사회 재건에 대한 </a:t>
            </a:r>
            <a:br>
              <a:rPr sz="4400"/>
            </a:br>
            <a:r>
              <a:rPr b="0" lang="ko-KR" sz="4400" spc="-1" strike="noStrike">
                <a:solidFill>
                  <a:srgbClr val="cc6600"/>
                </a:solidFill>
                <a:latin typeface="휴먼엑스포"/>
                <a:ea typeface="휴먼엑스포"/>
              </a:rPr>
              <a:t>특별한 도전들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제</a:t>
            </a: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2</a:t>
            </a: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기 북한학교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	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예수원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2005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넌 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2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월 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1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6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일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-19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일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	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벤 토레이 신부님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주체사상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종교의 사상인가 또는 사상의 종교인가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종교의 본질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자신의 밖에 있는 무언가에게 최우선적으로 헌신하는 것이 요구됨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자신을 버림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희생적인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현실에서의 믿음은 도저히 인식할 수 없는 것이다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헌신과 전념으로부터 만족감을 공급한다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주체는 수령 주변을 건설하는 사상이다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주체사상의 마지막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믿음을 잃었을 때 어떤 일이 발생하는가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윤리의 기초가 사라졌을 때 어떤 일이 일어나는가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목적이 제거되었을 때 어떤 일이 일어나는가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과거의 헌신이 하찮은 것으로 드러났을 때 어떤 일이 일어나는가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치료의 필요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3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모든 것이 다 병적이다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3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개인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신체적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감정적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심리적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영적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3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가족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관계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구조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3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사회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새롭고 건강한 시설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건강하고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헌신된 개인의 필요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3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나라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새로운 물리적인 하부구조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새로운 법적 체계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어떻게 시작할 것인가</a:t>
            </a:r>
            <a:r>
              <a:rPr b="0" lang="en-US" sz="4800" spc="-1" strike="noStrike">
                <a:solidFill>
                  <a:srgbClr val="cc6600"/>
                </a:solidFill>
                <a:latin typeface="Arial"/>
                <a:ea typeface="굴림"/>
              </a:rPr>
              <a:t>?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6600"/>
                </a:solidFill>
                <a:latin typeface="Arial"/>
                <a:ea typeface="굴림"/>
              </a:rPr>
              <a:t>기도</a:t>
            </a:r>
            <a:r>
              <a:rPr b="0" lang="en-US" sz="3000" spc="-1" strike="noStrike">
                <a:solidFill>
                  <a:srgbClr val="006600"/>
                </a:solidFill>
                <a:latin typeface="Arial"/>
                <a:ea typeface="굴림"/>
              </a:rPr>
              <a:t>!  </a:t>
            </a:r>
            <a:r>
              <a:rPr b="0" lang="ko-KR" sz="3000" spc="-1" strike="noStrike">
                <a:solidFill>
                  <a:srgbClr val="006600"/>
                </a:solidFill>
                <a:latin typeface="Arial"/>
                <a:ea typeface="굴림"/>
              </a:rPr>
              <a:t>이사야 </a:t>
            </a:r>
            <a:r>
              <a:rPr b="0" lang="en-US" sz="3000" spc="-1" strike="noStrike">
                <a:solidFill>
                  <a:srgbClr val="006600"/>
                </a:solidFill>
                <a:latin typeface="Arial"/>
                <a:ea typeface="굴림"/>
              </a:rPr>
              <a:t>62</a:t>
            </a:r>
            <a:r>
              <a:rPr b="0" lang="ko-KR" sz="3000" spc="-1" strike="noStrike">
                <a:solidFill>
                  <a:srgbClr val="006600"/>
                </a:solidFill>
                <a:latin typeface="Arial"/>
                <a:ea typeface="굴림"/>
              </a:rPr>
              <a:t>장</a:t>
            </a:r>
            <a:r>
              <a:rPr b="0" lang="en-US" sz="3000" spc="-1" strike="noStrike">
                <a:solidFill>
                  <a:srgbClr val="006600"/>
                </a:solidFill>
                <a:latin typeface="Arial"/>
                <a:ea typeface="굴림"/>
              </a:rPr>
              <a:t>6</a:t>
            </a:r>
            <a:r>
              <a:rPr b="0" lang="ko-KR" sz="3000" spc="-1" strike="noStrike">
                <a:solidFill>
                  <a:srgbClr val="006600"/>
                </a:solidFill>
                <a:latin typeface="Arial"/>
                <a:ea typeface="굴림"/>
              </a:rPr>
              <a:t>절</a:t>
            </a:r>
            <a:r>
              <a:rPr b="0" lang="en-US" sz="3000" spc="-1" strike="noStrike">
                <a:solidFill>
                  <a:srgbClr val="006600"/>
                </a:solidFill>
                <a:latin typeface="Arial"/>
                <a:ea typeface="굴림"/>
              </a:rPr>
              <a:t>-7</a:t>
            </a:r>
            <a:r>
              <a:rPr b="0" lang="ko-KR" sz="3000" spc="-1" strike="noStrike">
                <a:solidFill>
                  <a:srgbClr val="006600"/>
                </a:solidFill>
                <a:latin typeface="Arial"/>
                <a:ea typeface="굴림"/>
              </a:rPr>
              <a:t>절</a:t>
            </a:r>
            <a:endParaRPr b="0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6600"/>
                </a:solidFill>
                <a:latin typeface="Arial"/>
                <a:ea typeface="굴림"/>
              </a:rPr>
              <a:t>겸손한 준비</a:t>
            </a:r>
            <a:endParaRPr b="0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6600"/>
                </a:solidFill>
                <a:latin typeface="Arial"/>
                <a:ea typeface="굴림"/>
              </a:rPr>
              <a:t>사랑 보여주기</a:t>
            </a:r>
            <a:endParaRPr b="0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6600"/>
                </a:solidFill>
                <a:latin typeface="Arial"/>
                <a:ea typeface="굴림"/>
              </a:rPr>
              <a:t>위험 받아들이기</a:t>
            </a:r>
            <a:endParaRPr b="0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6600"/>
                </a:solidFill>
                <a:latin typeface="Arial"/>
                <a:ea typeface="굴림"/>
              </a:rPr>
              <a:t>우리 삶을 내려놓기</a:t>
            </a:r>
            <a:endParaRPr b="0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6600"/>
                </a:solidFill>
                <a:latin typeface="Arial"/>
                <a:ea typeface="굴림"/>
              </a:rPr>
              <a:t>이렇게 한 후에는 이러한 환경 속에서 말씀의 의미를 얻는다</a:t>
            </a:r>
            <a:r>
              <a:rPr b="0" lang="en-US" sz="3000" spc="-1" strike="noStrike">
                <a:solidFill>
                  <a:srgbClr val="006600"/>
                </a:solidFill>
                <a:latin typeface="Arial"/>
                <a:ea typeface="굴림"/>
              </a:rPr>
              <a:t>. </a:t>
            </a:r>
            <a:r>
              <a:rPr b="0" lang="ko-KR" sz="3000" spc="-1" strike="noStrike">
                <a:solidFill>
                  <a:srgbClr val="006600"/>
                </a:solidFill>
                <a:latin typeface="Arial"/>
                <a:ea typeface="굴림"/>
              </a:rPr>
              <a:t>이렇게 한 후에는 귀중한 것들을 가르친다</a:t>
            </a:r>
            <a:r>
              <a:rPr b="0" lang="en-US" sz="3000" spc="-1" strike="noStrike">
                <a:solidFill>
                  <a:srgbClr val="006600"/>
                </a:solidFill>
                <a:latin typeface="Arial"/>
                <a:ea typeface="굴림"/>
              </a:rPr>
              <a:t>.</a:t>
            </a:r>
            <a:endParaRPr b="0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700" spc="-1" strike="noStrike">
                <a:solidFill>
                  <a:srgbClr val="cc6600"/>
                </a:solidFill>
                <a:latin typeface="Arial"/>
                <a:ea typeface="굴림"/>
              </a:rPr>
              <a:t>누가할 것인가</a:t>
            </a:r>
            <a:r>
              <a:rPr b="0" lang="en-US" sz="4700" spc="-1" strike="noStrike">
                <a:solidFill>
                  <a:srgbClr val="cc6600"/>
                </a:solidFill>
                <a:latin typeface="Arial"/>
                <a:ea typeface="굴림"/>
              </a:rPr>
              <a:t>?</a:t>
            </a:r>
            <a:endParaRPr b="0" lang="en-US" sz="4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6600"/>
                </a:solidFill>
                <a:latin typeface="Arial"/>
                <a:ea typeface="굴림"/>
              </a:rPr>
              <a:t>준비가 되어 있는 사람들</a:t>
            </a:r>
            <a:endParaRPr b="0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6600"/>
                </a:solidFill>
                <a:latin typeface="Arial"/>
                <a:ea typeface="굴림"/>
              </a:rPr>
              <a:t>사려 깊고 지식 있는 </a:t>
            </a:r>
            <a:endParaRPr b="0" lang="en-US" sz="2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6600"/>
                </a:solidFill>
                <a:latin typeface="Arial"/>
                <a:ea typeface="굴림"/>
              </a:rPr>
              <a:t>겸손하고 사랑하는</a:t>
            </a:r>
            <a:endParaRPr b="0" lang="en-US" sz="2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6600"/>
                </a:solidFill>
                <a:latin typeface="Arial"/>
                <a:ea typeface="굴림"/>
              </a:rPr>
              <a:t>성령의 힘으로 감화되고 열매를 맺는 </a:t>
            </a:r>
            <a:endParaRPr b="0" lang="en-US" sz="2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6600"/>
                </a:solidFill>
                <a:latin typeface="Arial"/>
                <a:ea typeface="굴림"/>
              </a:rPr>
              <a:t>그리스도에게 의지하는</a:t>
            </a:r>
            <a:endParaRPr b="0" lang="en-US" sz="2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6600"/>
                </a:solidFill>
                <a:latin typeface="Arial"/>
                <a:ea typeface="굴림"/>
              </a:rPr>
              <a:t>삶을 기꺼이 내려 놓을 수 있는</a:t>
            </a:r>
            <a:endParaRPr b="0" lang="en-US" sz="21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6600"/>
                </a:solidFill>
                <a:latin typeface="Arial"/>
                <a:ea typeface="굴림"/>
              </a:rPr>
              <a:t>군대 비축</a:t>
            </a:r>
            <a:endParaRPr b="0" lang="en-US" sz="29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6600"/>
                </a:solidFill>
                <a:latin typeface="Arial"/>
                <a:ea typeface="굴림"/>
              </a:rPr>
              <a:t>이것은 요구합니다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  <a:ea typeface="굴림"/>
              </a:rPr>
              <a:t>:</a:t>
            </a:r>
            <a:endParaRPr b="0" lang="en-US" sz="21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38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지속적인 준비를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38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서로 격려하며 계속되는 훈련을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38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지속될 수 있는 구조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38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확고한 목적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700" spc="-1" strike="noStrike">
                <a:solidFill>
                  <a:srgbClr val="cc6600"/>
                </a:solidFill>
                <a:latin typeface="Arial"/>
                <a:ea typeface="굴림"/>
              </a:rPr>
              <a:t>누가 속하는가</a:t>
            </a:r>
            <a:r>
              <a:rPr b="0" lang="en-US" sz="4700" spc="-1" strike="noStrike">
                <a:solidFill>
                  <a:srgbClr val="cc6600"/>
                </a:solidFill>
                <a:latin typeface="Arial"/>
                <a:ea typeface="굴림"/>
              </a:rPr>
              <a:t>?</a:t>
            </a:r>
            <a:endParaRPr b="0" lang="en-US" sz="4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65000"/>
            <a:ext cx="382284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12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6600"/>
                </a:solidFill>
                <a:latin typeface="Arial"/>
                <a:ea typeface="굴림"/>
              </a:rPr>
              <a:t>전문가들</a:t>
            </a:r>
            <a:endParaRPr b="0" lang="en-US" sz="25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변호사들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기술자들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보건 관련자들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선생님들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2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6600"/>
                </a:solidFill>
                <a:latin typeface="Arial"/>
                <a:ea typeface="굴림"/>
              </a:rPr>
              <a:t>장인</a:t>
            </a:r>
            <a:r>
              <a:rPr b="0" lang="en-US" sz="2500" spc="-1" strike="noStrike">
                <a:solidFill>
                  <a:srgbClr val="0066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匠人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)</a:t>
            </a:r>
            <a:r>
              <a:rPr b="0" lang="ko-KR" sz="2500" spc="-1" strike="noStrike">
                <a:solidFill>
                  <a:srgbClr val="006600"/>
                </a:solidFill>
                <a:latin typeface="Arial"/>
                <a:ea typeface="굴림"/>
              </a:rPr>
              <a:t>들</a:t>
            </a:r>
            <a:endParaRPr b="0" lang="en-US" sz="25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기계공들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건설노동자들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상점 점원들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서비스업 종사자들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65000"/>
            <a:ext cx="382248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12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6600"/>
                </a:solidFill>
                <a:latin typeface="Arial"/>
                <a:ea typeface="굴림"/>
              </a:rPr>
              <a:t>기업가들</a:t>
            </a:r>
            <a:endParaRPr b="0" lang="en-US" sz="25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대기업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소기업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2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6600"/>
                </a:solidFill>
                <a:latin typeface="Arial"/>
                <a:ea typeface="굴림"/>
              </a:rPr>
              <a:t>돕는 사람들</a:t>
            </a:r>
            <a:endParaRPr b="0" lang="en-US" sz="25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교회 스폰서들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비영리 단체들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38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Arial"/>
                <a:ea typeface="굴림"/>
              </a:rPr>
              <a:t>UN</a:t>
            </a:r>
            <a:r>
              <a:rPr b="0" lang="ko-KR" sz="1900" spc="-1" strike="noStrike">
                <a:solidFill>
                  <a:srgbClr val="006600"/>
                </a:solidFill>
                <a:latin typeface="Arial"/>
                <a:ea typeface="굴림"/>
              </a:rPr>
              <a:t>과 정부</a:t>
            </a:r>
            <a:endParaRPr b="0" lang="en-US" sz="19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이러한 기술은 없지만 사랑과 정열을 가지고 기꺼이 열심히 일할 수 있는 사람들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562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기쁘게 참가하시겠습니까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?  </a:t>
            </a:r>
            <a:endParaRPr b="0" lang="en-US" sz="2400" spc="-1" strike="noStrike">
              <a:solidFill>
                <a:srgbClr val="33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최근에 당신의 모집인과 이야기한적 있습니까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?</a:t>
            </a:r>
            <a:endParaRPr b="0" lang="en-US" sz="2400" spc="-1" strike="noStrike">
              <a:solidFill>
                <a:srgbClr val="33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개요</a:t>
            </a: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	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답을 제공하기보다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굴림"/>
              </a:rPr>
              <a:t> </a:t>
            </a: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문제를 야기함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믿을 수 있는 자료의 필요성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현재는 대부분이 일화임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사회적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심리적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문화적 연구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연구가 가능한 집단들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기존연구의 통합정리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번역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개요</a:t>
            </a:r>
            <a:r>
              <a:rPr b="0" lang="en-US" sz="4800" spc="-1" strike="noStrike">
                <a:solidFill>
                  <a:srgbClr val="cc6600"/>
                </a:solidFill>
                <a:latin typeface="Arial"/>
                <a:ea typeface="굴림"/>
              </a:rPr>
              <a:t>(</a:t>
            </a: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계속</a:t>
            </a:r>
            <a:r>
              <a:rPr b="0" lang="en-US" sz="4800" spc="-1" strike="noStrike">
                <a:solidFill>
                  <a:srgbClr val="cc6600"/>
                </a:solidFill>
                <a:latin typeface="Arial"/>
                <a:ea typeface="굴림"/>
              </a:rPr>
              <a:t>)</a:t>
            </a:r>
            <a:r>
              <a:rPr b="0" lang="en-US" sz="4800" spc="-1" strike="noStrike">
                <a:solidFill>
                  <a:srgbClr val="cc6600"/>
                </a:solidFill>
                <a:latin typeface="Arial"/>
                <a:ea typeface="굴림"/>
              </a:rPr>
              <a:t>	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더 많은 비교연구의 필요성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동서독 통일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소련과 동유럽의 경험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일본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중동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이러한 연구 결과들을 가지고 한국의 상황에 어떻게 적용시킬 것인지를 검토할 필요성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중앙계획체제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00"/>
                </a:solidFill>
                <a:latin typeface="Arial"/>
                <a:ea typeface="굴림"/>
              </a:rPr>
              <a:t>요구사항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전지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全知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통제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00"/>
                </a:solidFill>
                <a:latin typeface="Arial"/>
                <a:ea typeface="굴림"/>
              </a:rPr>
              <a:t>절대적인 복종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00"/>
                </a:solidFill>
                <a:latin typeface="Arial"/>
                <a:ea typeface="굴림"/>
              </a:rPr>
              <a:t>선택의 배제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00"/>
                </a:solidFill>
                <a:latin typeface="Arial"/>
                <a:ea typeface="굴림"/>
              </a:rPr>
              <a:t>예상치 못한 상황에서는 행동할 수 없다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00"/>
                </a:solidFill>
                <a:latin typeface="Arial"/>
                <a:ea typeface="굴림"/>
              </a:rPr>
              <a:t>경제지식이동의 기본 메커니즘을 거절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굴림"/>
              </a:rPr>
              <a:t>-</a:t>
            </a:r>
            <a:r>
              <a:rPr b="0" lang="ko-KR" sz="2800" spc="-1" strike="noStrike">
                <a:solidFill>
                  <a:srgbClr val="006600"/>
                </a:solidFill>
                <a:latin typeface="Arial"/>
                <a:ea typeface="굴림"/>
              </a:rPr>
              <a:t>가격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00"/>
                </a:solidFill>
                <a:latin typeface="Arial"/>
                <a:ea typeface="굴림"/>
              </a:rPr>
              <a:t>인간 본성에 대한 근본적인 잘못된 이해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개인들을 다음과 같이 본다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00"/>
                </a:solidFill>
                <a:latin typeface="Arial"/>
                <a:ea typeface="굴림"/>
              </a:rPr>
              <a:t>기계의 부속품 또는 제거될 수 있는 문제처럼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00"/>
                </a:solidFill>
                <a:latin typeface="Arial"/>
                <a:ea typeface="굴림"/>
              </a:rPr>
              <a:t>마음대로 조종할 수 있는 개체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근본적으로 낙관적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굴림"/>
              </a:rPr>
              <a:t>vs. </a:t>
            </a: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성경적인 관점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중앙계획체제</a:t>
            </a:r>
            <a:r>
              <a:rPr b="0" lang="en-US" sz="4800" spc="-1" strike="noStrike">
                <a:solidFill>
                  <a:srgbClr val="cc6600"/>
                </a:solidFill>
                <a:latin typeface="Arial"/>
                <a:ea typeface="굴림"/>
              </a:rPr>
              <a:t>—</a:t>
            </a: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효과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00"/>
                </a:solidFill>
                <a:latin typeface="Arial"/>
                <a:ea typeface="굴림"/>
              </a:rPr>
              <a:t>경제적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7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6600"/>
                </a:solidFill>
                <a:latin typeface="Arial"/>
                <a:ea typeface="굴림"/>
              </a:rPr>
              <a:t>분배를 위한 지침서가 없다</a:t>
            </a:r>
            <a:endParaRPr b="0" lang="en-US" sz="2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7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6600"/>
                </a:solidFill>
                <a:latin typeface="Arial"/>
                <a:ea typeface="굴림"/>
              </a:rPr>
              <a:t>변화하는 환경에 가난한 혹은 어려운 자들이 반응 </a:t>
            </a:r>
            <a:endParaRPr b="0" lang="en-US" sz="2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7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6600"/>
                </a:solidFill>
                <a:latin typeface="Arial"/>
                <a:ea typeface="굴림"/>
              </a:rPr>
              <a:t>상과 벌의 부자연적인</a:t>
            </a:r>
            <a:r>
              <a:rPr b="0" lang="en-US" sz="2200" spc="-1" strike="noStrike">
                <a:solidFill>
                  <a:srgbClr val="006600"/>
                </a:solidFill>
                <a:latin typeface="Arial"/>
                <a:ea typeface="굴림"/>
              </a:rPr>
              <a:t>, </a:t>
            </a:r>
            <a:r>
              <a:rPr b="0" lang="ko-KR" sz="2200" spc="-1" strike="noStrike">
                <a:solidFill>
                  <a:srgbClr val="006600"/>
                </a:solidFill>
                <a:latin typeface="Arial"/>
                <a:ea typeface="굴림"/>
              </a:rPr>
              <a:t>관념적인 체제</a:t>
            </a:r>
            <a:endParaRPr b="0" lang="en-US" sz="2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7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6600"/>
                </a:solidFill>
                <a:latin typeface="Arial"/>
                <a:ea typeface="굴림"/>
              </a:rPr>
              <a:t>대체 경제를 초래 </a:t>
            </a:r>
            <a:endParaRPr b="0" lang="en-US" sz="2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22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00"/>
                </a:solidFill>
                <a:latin typeface="Arial"/>
                <a:ea typeface="굴림"/>
              </a:rPr>
              <a:t>법을 무시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6600"/>
                </a:solidFill>
                <a:latin typeface="Arial"/>
                <a:ea typeface="굴림"/>
              </a:rPr>
              <a:t>법의 규칙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224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00"/>
                </a:solidFill>
                <a:latin typeface="Arial"/>
                <a:ea typeface="굴림"/>
              </a:rPr>
              <a:t>부패를 야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00"/>
                </a:solidFill>
                <a:latin typeface="Arial"/>
                <a:ea typeface="굴림"/>
              </a:rPr>
              <a:t>정신적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7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6600"/>
                </a:solidFill>
                <a:latin typeface="Arial"/>
                <a:ea typeface="굴림"/>
              </a:rPr>
              <a:t>비뚤어진 상과 벌은 규율의 잘못된 기초</a:t>
            </a:r>
            <a:endParaRPr b="0" lang="en-US" sz="2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7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6600"/>
                </a:solidFill>
                <a:latin typeface="Arial"/>
                <a:ea typeface="굴림"/>
              </a:rPr>
              <a:t>자아비판  </a:t>
            </a:r>
            <a:endParaRPr b="0" lang="en-US" sz="2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7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6600"/>
                </a:solidFill>
                <a:latin typeface="Arial"/>
                <a:ea typeface="굴림"/>
              </a:rPr>
              <a:t>독창력의 파괴</a:t>
            </a:r>
            <a:endParaRPr b="0" lang="en-US" sz="2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7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6600"/>
                </a:solidFill>
                <a:latin typeface="Arial"/>
                <a:ea typeface="굴림"/>
              </a:rPr>
              <a:t>일반적인 사고 방식에 영향</a:t>
            </a:r>
            <a:r>
              <a:rPr b="0" lang="en-US" sz="2200" spc="-1" strike="noStrike">
                <a:solidFill>
                  <a:srgbClr val="006600"/>
                </a:solidFill>
                <a:latin typeface="Arial"/>
                <a:ea typeface="굴림"/>
              </a:rPr>
              <a:t>?</a:t>
            </a:r>
            <a:endParaRPr b="0" lang="en-US" sz="2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중앙계획체제</a:t>
            </a:r>
            <a:r>
              <a:rPr b="0" lang="en-US" sz="4800" spc="-1" strike="noStrike">
                <a:solidFill>
                  <a:srgbClr val="cc6600"/>
                </a:solidFill>
                <a:latin typeface="Arial"/>
                <a:ea typeface="굴림"/>
              </a:rPr>
              <a:t>—</a:t>
            </a: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효과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사회적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정신적 피해가 사회로 옮겨진다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.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가족의 파괴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가족은 제어하기 편한 낡은 구조에 지나지 않는다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6600"/>
                </a:solidFill>
                <a:latin typeface="Arial"/>
                <a:ea typeface="굴림"/>
              </a:rPr>
              <a:t>성경에서의 가족은 하나님의 형상 그리고 소중하고 보호되어지는 사회의 기본적 단위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굴림"/>
              </a:rPr>
              <a:t>,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세대간의 적대 관계 조성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왜곡되고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부패하고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기형인 사회구조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교육은 사회나 개인의 기본 필요가 아닌 이데올로기를 강요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중앙계획체제</a:t>
            </a:r>
            <a:r>
              <a:rPr b="0" lang="en-US" sz="4800" spc="-1" strike="noStrike">
                <a:solidFill>
                  <a:srgbClr val="cc6600"/>
                </a:solidFill>
                <a:latin typeface="Arial"/>
                <a:ea typeface="굴림"/>
              </a:rPr>
              <a:t>—</a:t>
            </a: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효과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문화적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“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집단 정신 프로그랭화는  한 그룹 혹은 범주의 다른 사람들로부터 구별한다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.”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프로그램화는 위에서 논의한 모든 영향들을 반영한다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사회를 위한 새로운 규범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기관의 의미 변화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문화의 변화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문화적 활동이 새로운 의미를 띈다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경찰국가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중앙계획체제의 강요를 위한 전달수단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이웃과 이웃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가족과 가족간의 경쟁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정신적 문화적 의심 양성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부적절하고 그릇된 방향의 경제적 요인들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기생적인 관료정치와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강제 조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생산 방해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일자리로부터 노동자들을 제거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19a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cc6600"/>
                </a:solidFill>
                <a:latin typeface="Arial"/>
                <a:ea typeface="굴림"/>
              </a:rPr>
              <a:t>이데올로기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이데올로기는 생각의 체계이다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기초로 공헌하고 행동을 인도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최후의 수단이 되도록 요구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인간 본성의 설명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이데올로기 자체로는 힘이 없다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66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Arial"/>
                <a:ea typeface="굴림"/>
              </a:rPr>
              <a:t>요구사항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강제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사상주입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00"/>
                </a:solidFill>
                <a:latin typeface="Arial"/>
                <a:ea typeface="굴림"/>
              </a:rPr>
              <a:t>신념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0:28:54Z</dcterms:created>
  <dc:creator>Ben Torrey</dc:creator>
  <dc:description/>
  <dc:language>en-US</dc:language>
  <cp:lastModifiedBy>Ben Torrey</cp:lastModifiedBy>
  <dcterms:modified xsi:type="dcterms:W3CDTF">2005-01-31T14:08:21Z</dcterms:modified>
  <cp:revision>44</cp:revision>
  <dc:subject/>
  <dc:title>The Particular Challenges of Reconstructing North Korean Society</dc:title>
</cp:coreProperties>
</file>